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Sixtee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the Meaning of 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ve and Courtship in Glob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hannels of Love and 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 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birth and Child Re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ed Couples and Single M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ital Satisf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n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 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Transitions in Later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ultolescents and the Not-So-Empty N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ow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 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-American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ino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an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Parent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U.S. - One Woman, Man, an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ultures Polygamy and Polyan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ved Group into which a Child is Bo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Fami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Parent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es Without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y and Lesbian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Parent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es Without Child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nded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poning Marriage and Child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nds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married M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nds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poning Marriage and Child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ab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married M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nds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poning Marriage and Child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ab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amily consists of people who consider themselves related by blood, marriage, or adoption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poning Marriage and Child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ab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married M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dparents as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nds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ndwich Generation and Elder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in Measuring 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orce and Re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ent Fathers and Serial Fathe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-Spo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in Measuring 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ren and Grandchildren of 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orce and Re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ark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 Ab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ital R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ides of 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ight Side—Successful Marri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use is Best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Spouse as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 Marriage is Long-Term Commi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eve Marriage is Sac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ides of 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ight Side—Successful Marri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with Spouse Aims and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eve Spouse Grown More Inter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Relationship to Suc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gh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ides of 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of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of Pro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Can B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 a Lot of Time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Quick to Express Appre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ted to Promoting Mutual Wel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 and Listen a L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Relig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 with Crises Posit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anger of Becoming a Re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abitation, Single Mothers, Age at Marriage, Grandparents as Parents will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d Distorted Images of Marriage and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ture of Marriage and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es Establish Patterns o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Cultural Th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of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 of Sick and A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ua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s of Incest and Tab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ion and Emotional Over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Struggle over Hous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FE242-D884-4E79-A7F2-361CC4B5C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83911-FC4C-4240-AD72-BA54B40B6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76D3B-2BB1-470E-BD18-492CB8D85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6327A-4AE6-4CE0-B45C-CF4DD14539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759D8-A2CA-4326-977B-433A94D4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F66AF-415F-49A0-B6F1-46391CED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709A7-0136-4A96-A1B2-8F2371C6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AB6B1-C4B6-460C-BA52-8900516B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A7220-0E63-4FD6-9861-B7B26AB2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D2321-89F3-4E64-9571-667672C0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0BA7F-E98E-4C8A-AE80-892340F4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84A49-9E7C-4D2D-AB85-6496B1FD7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14561-A644-4902-A6C0-32F1A7AC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5B659-3545-4813-B170-32C3E0CA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98DDD-E15B-4DA4-9933-F20890D3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4E3C1-FA1F-47F6-A57D-03FB5D9E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C22DE-B5C5-4876-B2F2-BABC727D1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642AF-79A7-45DE-A0EC-F840BCC9B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C6CB0-4515-43BA-B628-FE7ED81CF8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3CC67-90F1-4AAB-828E-342E57862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D1915-B793-40B5-80AA-9D6CC6847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14249-B170-4E33-8BA3-BA4A9ABA0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931F9-2420-4988-A922-D8064F72F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17813-EF99-4885-88E7-2B478EE840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82D1-4090-4AA8-A9C0-F287CD0FA32A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6: The Family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5CA6-5ABF-4611-9A45-5519D9CD4A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352680" y="3657600"/>
            <a:ext cx="4800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Sixteen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The Family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3" name="Picture 5" descr="C:\PowerPoint Work\Allyn &amp; Bacon\2005 Work\Henslin 8ed\Artwork\16-01.jpg"/>
          <p:cNvPicPr/>
          <p:nvPr/>
        </p:nvPicPr>
        <p:blipFill>
          <a:blip r:embed="rId1"/>
          <a:stretch/>
        </p:blipFill>
        <p:spPr>
          <a:xfrm>
            <a:off x="1447920" y="533520"/>
            <a:ext cx="5781600" cy="5867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the Meaning of Marri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Ro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139680"/>
            <a:ext cx="7696440" cy="191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ymbolic Inter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1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ve and Courtship in Global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ri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36640" indent="-27972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hannels of Love and Marri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Family Life Cycl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0" dur="1" fill="hold"/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1" name="Picture 3" descr="C:\PowerPoint Work\Allyn &amp; Bacon\2005 Work\Henslin 8ed\Artwork\16-02.jpg"/>
          <p:cNvPicPr/>
          <p:nvPr/>
        </p:nvPicPr>
        <p:blipFill>
          <a:blip r:embed="rId1"/>
          <a:stretch/>
        </p:blipFill>
        <p:spPr>
          <a:xfrm>
            <a:off x="2133720" y="457200"/>
            <a:ext cx="436068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birth and Child Rear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ried Couples and Single M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ay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ital Satisf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nn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Family Life Cycl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4" dur="1" fill="hold"/>
                                  <p:tgtEl>
                                    <p:spTgt spid="12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6" name="Picture 3" descr="C:\PowerPoint Work\Allyn &amp; Bacon\2005 Work\Henslin 8ed\Artwork\16-03.jpg"/>
          <p:cNvPicPr/>
          <p:nvPr/>
        </p:nvPicPr>
        <p:blipFill>
          <a:blip r:embed="rId1"/>
          <a:stretch/>
        </p:blipFill>
        <p:spPr>
          <a:xfrm>
            <a:off x="2209680" y="304920"/>
            <a:ext cx="454356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58676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y Transitions in Later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dultolescents and the Not-So-Empty Ne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idow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Family Life Cycl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3" dur="1" fill="hold"/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frican-American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tino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ian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ive American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ersity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7" dur="1" fill="hold"/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4" name="Picture 3" descr="C:\PowerPoint Work\Allyn &amp; Bacon\2005 Work\Henslin 8ed\Artwork\16-04.jpg"/>
          <p:cNvPicPr/>
          <p:nvPr/>
        </p:nvPicPr>
        <p:blipFill>
          <a:blip r:embed="rId1"/>
          <a:stretch/>
        </p:blipFill>
        <p:spPr>
          <a:xfrm>
            <a:off x="1066680" y="685800"/>
            <a:ext cx="6782040" cy="5410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ne-Parent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ersity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6" dur="1" fill="hold"/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8377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 U.S. - One Woman, Man, and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ther Cultures Polygamy and Polyand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roved Group into which a Child is Born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143000" y="882720"/>
            <a:ext cx="556272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a Family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9" name="Picture 3" descr="C:\PowerPoint Work\Allyn &amp; Bacon\2005 Work\Henslin 8ed\Artwork\16-05.jpg"/>
          <p:cNvPicPr/>
          <p:nvPr/>
        </p:nvPicPr>
        <p:blipFill>
          <a:blip r:embed="rId1"/>
          <a:stretch/>
        </p:blipFill>
        <p:spPr>
          <a:xfrm>
            <a:off x="2971800" y="304920"/>
            <a:ext cx="316404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ersity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066680" y="2057400"/>
            <a:ext cx="8001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One-Parent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ies Without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9" dur="1" fill="hold"/>
                                  <p:tgtEl>
                                    <p:spTgt spid="1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4" name="Picture 3" descr="C:\PowerPoint Work\Allyn &amp; Bacon\2005 Work\Henslin 8ed\Artwork\16-06.jpg"/>
          <p:cNvPicPr/>
          <p:nvPr/>
        </p:nvPicPr>
        <p:blipFill>
          <a:blip r:embed="rId1"/>
          <a:stretch/>
        </p:blipFill>
        <p:spPr>
          <a:xfrm>
            <a:off x="3124080" y="152280"/>
            <a:ext cx="294012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ay and Lesbian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ersity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066680" y="2057400"/>
            <a:ext cx="8001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One-Parent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Families Without Children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lended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1" dur="1" fill="hold"/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stponing Marriage and Childbir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066680" y="838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0" dur="1" fill="hold"/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3" name="Picture 3" descr="C:\PowerPoint Work\Allyn &amp; Bacon\2005 Work\Henslin 8ed\Artwork\16-07.jpg"/>
          <p:cNvPicPr/>
          <p:nvPr/>
        </p:nvPicPr>
        <p:blipFill>
          <a:blip r:embed="rId1"/>
          <a:stretch/>
        </p:blipFill>
        <p:spPr>
          <a:xfrm>
            <a:off x="1066680" y="838080"/>
            <a:ext cx="6934320" cy="5241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married M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066680" y="838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06668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ostponing Marriage and Childbir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hab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8" dur="1" fill="hold"/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9" name="Picture 3" descr="C:\PowerPoint Work\Allyn &amp; Bacon\2005 Work\Henslin 8ed\Artwork\16-08.jpg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4970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1" name="Picture 3" descr="C:\PowerPoint Work\Allyn &amp; Bacon\2005 Work\Henslin 8ed\Artwork\16-09.jpg"/>
          <p:cNvPicPr/>
          <p:nvPr/>
        </p:nvPicPr>
        <p:blipFill>
          <a:blip r:embed="rId1"/>
          <a:stretch/>
        </p:blipFill>
        <p:spPr>
          <a:xfrm>
            <a:off x="3174840" y="152280"/>
            <a:ext cx="269244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married M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066680" y="838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06668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ostponing Marriage and Childbir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Cohab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5" dur="1" fill="hold"/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68120" indent="0">
              <a:lnSpc>
                <a:spcPct val="2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 family consists of people who consider themselves related by blood, marriage, or adoption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43000" y="882720"/>
            <a:ext cx="624852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Family Defined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7" name="Picture 3" descr="C:\PowerPoint Work\Allyn &amp; Bacon\2005 Work\Henslin 8ed\Artwork\16-10.jpg"/>
          <p:cNvPicPr/>
          <p:nvPr/>
        </p:nvPicPr>
        <p:blipFill>
          <a:blip r:embed="rId1"/>
          <a:stretch/>
        </p:blipFill>
        <p:spPr>
          <a:xfrm>
            <a:off x="2057400" y="380880"/>
            <a:ext cx="4971960" cy="6096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ostponing Marriage and Childbir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Cohab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Unmarried M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andparents as Par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066680" y="838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83808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andwich Generation and Elder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1" dur="1" fill="hold"/>
                                  <p:tgtEl>
                                    <p:spTgt spid="1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blems in Measuring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143000" y="938160"/>
            <a:ext cx="769608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orce and Remarriag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0" dur="1" fill="hold"/>
                                  <p:tgtEl>
                                    <p:spTgt spid="1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6" name="Picture 3" descr="C:\PowerPoint Work\Allyn &amp; Bacon\2005 Work\Henslin 8ed\Artwork\16-11.jpg"/>
          <p:cNvPicPr/>
          <p:nvPr/>
        </p:nvPicPr>
        <p:blipFill>
          <a:blip r:embed="rId1"/>
          <a:stretch/>
        </p:blipFill>
        <p:spPr>
          <a:xfrm>
            <a:off x="1066680" y="609480"/>
            <a:ext cx="6934320" cy="5700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8" name="Picture 3" descr="C:\PowerPoint Work\Allyn &amp; Bacon\2005 Work\Henslin 8ed\Artwork\16-12.jpg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4756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06668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bsent Fathers and Serial Father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-Spo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marri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90360" y="18288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roblems in Measuring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ren and Grandchildren of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143000" y="938160"/>
            <a:ext cx="769608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orce and Remarriag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8" dur="1" fill="hold"/>
                                  <p:tgtEl>
                                    <p:spTgt spid="1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84" name="Picture 3" descr="C:\PowerPoint Work\Allyn &amp; Bacon\2005 Work\Henslin 8ed\Artwork\16-13.jpg"/>
          <p:cNvPicPr/>
          <p:nvPr/>
        </p:nvPicPr>
        <p:blipFill>
          <a:blip r:embed="rId1"/>
          <a:stretch/>
        </p:blipFill>
        <p:spPr>
          <a:xfrm>
            <a:off x="1066680" y="152280"/>
            <a:ext cx="275904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pic>
        <p:nvPicPr>
          <p:cNvPr id="185" name="Picture 4" descr="C:\PowerPoint Work\Allyn &amp; Bacon\2005 Work\Henslin 8ed\Artwork\16-14.jpg"/>
          <p:cNvPicPr/>
          <p:nvPr/>
        </p:nvPicPr>
        <p:blipFill>
          <a:blip r:embed="rId2"/>
          <a:stretch/>
        </p:blipFill>
        <p:spPr>
          <a:xfrm>
            <a:off x="5105520" y="304920"/>
            <a:ext cx="277308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9903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Dark Sid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atter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 Abu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ital Rap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ce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066680" y="1166760"/>
            <a:ext cx="7772400" cy="89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wo Sides of Family Lif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7" dur="1" fill="hold"/>
                                  <p:tgtEl>
                                    <p:spTgt spid="18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Bright Side—Successful Marriag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ouse is Best Frien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ike Spouse as Pers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nk Marriage is Long-Term Commit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elieve Marriage is Sacr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066680" y="938160"/>
            <a:ext cx="784872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wo Sides of Family Lif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6" dur="1" fill="hold"/>
                                  <p:tgtEl>
                                    <p:spTgt spid="1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560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Bright Side—Successful Marriag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ree with Spouse Aims and Go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elieve Spouse Grown More Interest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ant Relationship to Succe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ugh Togeth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066680" y="938160"/>
            <a:ext cx="784872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wo Sides of Family Lif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5" dur="1" fill="hold"/>
                                  <p:tgtEl>
                                    <p:spTgt spid="1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69920" indent="-16992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uclea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69920" indent="-16992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tend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69920" indent="-16992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y of Orien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69920" indent="-16992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y of Procre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143000" y="882720"/>
            <a:ext cx="624852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Family Can Be..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end a Lot of Time Togeth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e Quick to Express Appreci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mitted to Promoting Mutual Welf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alk and Listen a Lot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e Religio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al with Crises Positive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066680" y="938160"/>
            <a:ext cx="784872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appy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9" dur="1" fill="hold"/>
                                  <p:tgtEl>
                                    <p:spTgt spid="19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Danger of Becoming a Relic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habitation, Single Mothers, Age at Marriage, Grandparents as Parents will Increa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inued Distorted Images of Marriage and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066680" y="304920"/>
            <a:ext cx="67820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Future of Marriage and Famil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8" dur="1" fill="hold"/>
                                  <p:tgtEl>
                                    <p:spTgt spid="1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0" descr="Henslin final"/>
          <p:cNvPicPr/>
          <p:nvPr/>
        </p:nvPicPr>
        <p:blipFill>
          <a:blip r:embed="rId1"/>
          <a:stretch/>
        </p:blipFill>
        <p:spPr>
          <a:xfrm>
            <a:off x="1981080" y="152280"/>
            <a:ext cx="475956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460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ies Establish Patterns of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 Sele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sc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herit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uthor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992160"/>
            <a:ext cx="7925040" cy="106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mmon Cultural Them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conomic 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ization of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re of Sick and Ag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228600"/>
            <a:ext cx="78487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unctionali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cre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ual Contr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228600"/>
            <a:ext cx="76201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unctionali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" dur="1" fill="hold"/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s of Incest and Taboo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solation and Emotional Overloa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066680" y="228600"/>
            <a:ext cx="76964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unctionali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Struggle over House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291960"/>
            <a:ext cx="7772400" cy="176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flic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7" dur="1" fill="hold"/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7:16:27Z</dcterms:modified>
  <cp:revision>174</cp:revision>
  <dc:subject>Chapter 16: The Family</dc:subject>
  <dc:title>Sociology: A Down-to-Earth Approach, 8/e</dc:title>
</cp:coreProperties>
</file>